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B74-A1B2-4DE6-B007-3E2E5B64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28A-2196-466F-8ED3-6DEB9F9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6ED-88E1-4501-B93C-34E80BD9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51D-D7C7-4650-AFE9-23CDF126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54A-BC33-4F30-A951-1BCAC8C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121-98C7-4356-8302-238AEE74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19A-FAA7-47E7-80F4-B98F6AD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CBF-2D6D-4D96-A771-42287DEE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8FE-EB13-4C4B-9D27-600DBDBE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7C5-C66D-45AC-8812-2A62EAB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3CC-7703-427F-BC0B-40571C5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532-3E17-46F6-B8B8-CB13C0A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4186-98B9-43F4-8D15-89524F5E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Comic Sans MS"/>
              </a:rPr>
              <a:t>La diversité de la v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u regardes un échantillon d’eau d’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étang et tu vois des micro-organismes. Chacun s’organise en groupe. Les vertébrés par exemple, comprennent 5 grandes famil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mammifè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ois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rep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batrac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poiss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29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a classification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Vivant ou non-vivant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 arbre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erre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 nuage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Des sous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e soleil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’herbe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élévision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Une auto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La table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Vivant  ou  non-vi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3160" y="0"/>
            <a:ext cx="1212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es arthropodes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et</a:t>
            </a:r>
            <a:br>
              <a:rPr sz="4000"/>
            </a:b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les insec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caractéristiques d’un arthropod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caractéristiques d’un insecte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40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s invertéb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invertébrés sont divisés en 4 grandes famil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crusta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insec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mollus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es arachn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3835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 perro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Comic Sans MS"/>
              </a:rPr>
              <a:t>Le perroquet fait partie de la famille des vertébrés. Il se classe dans la catégorie des oiseaux. Il a des plumes mais il n’a pas de dents. Au Vénézuela, certains perroquets peuvent être vendus pour 100 000$ !! Le perroquet est un oiseau très intelligent. Il peut être très bruyant et faire des sons qui ressemble beaucoup à aux sons des êtres humains. Le perroquet peut vivre de 10 à 60 an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insectes ou les arachnid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insectes sont assez bizarres!  Elles sont les « cousines » des arthropodes!  Les insectes on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six patt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ail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deux antenn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. Mais ATTENTION! , les araignées ne sont pas des insectes, mais des arachnid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es arachnides font partie du groupe des arthropodes:  Elles ont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quatre paires de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Comic Sans MS"/>
              </a:rPr>
              <a:t>pattes</a:t>
            </a: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, elles n’ont pas d’ailes et n’ont pas d’ante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54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6:56:54Z</dcterms:created>
  <dc:creator>nbdoe</dc:creator>
  <dc:description/>
  <dc:language>en-US</dc:language>
  <cp:lastModifiedBy>nbdoe</cp:lastModifiedBy>
  <dcterms:modified xsi:type="dcterms:W3CDTF">2008-10-28T16:59:20Z</dcterms:modified>
  <cp:revision>8</cp:revision>
  <dc:subject/>
  <dc:title>La classification</dc:title>
</cp:coreProperties>
</file>